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2078-521C-436C-939C-7958214D9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70FC-E1C5-44B8-A2AA-D15E54657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A5F9-641F-4FC1-8FFF-51BC331D6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E8D9-BD7E-44CA-8AB2-348EF6B7C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AF522-75CB-470A-8EFC-4221F52A9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DE1AB-B0CE-4E9B-817A-FCB7F2C92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89286-1EEF-461E-8D8C-9AA1A0443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A597B-47AA-40AF-8439-20E9D437B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9B8EC-A384-4304-A9CA-1C20BEE40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B062C-AA72-40AC-8A67-22FF01BB6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CDECA-0078-4AEB-A055-981CE3EF3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D9EC-2EBA-4564-9D5C-0D7FDE743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832BF-D4CA-4C6B-94E3-35213B55B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17355-1669-49D8-BAE8-69FB6F814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1B093-245C-4792-878B-F41F18013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930B3-9172-468F-BE36-9754D3E5D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F2A7D-54B7-42D8-84BB-53E2E9DD6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18FDAC-5CF9-4E41-835C-7A0813C0D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386A1B-963F-4116-8E30-9FE7947F5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5B7FB1-EE7B-43BF-9C73-34FE71E53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DE1998-17C3-4B82-AE7A-EDBBD2051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844D18-A2BE-42EA-A71B-974D8CF73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ABB7-4164-4742-8ECA-2DD550EE9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C2053D-B643-4540-BE09-2592A92A2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5D8425-6C9E-41C8-B628-DB421B0D9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661B1D-87E3-4611-BB24-08A95E2E6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16202C-9109-4DD9-A57E-73910839D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EF049C-768A-43B4-BC5E-D30B73112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CABF40-9DA4-43B4-A8BD-02FEBDE78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623BF0-CAF5-43DC-8267-03F054A38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CA97-8BCA-40FC-B395-5D4D2AC78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A42C-B3C8-4CE0-82B4-66A271313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457F-2DFF-485E-B06C-48D0646AD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2FD8-7937-480F-8BAA-680F8AC3C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6ADF-D640-48BB-8125-44F9A46AB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7538-7092-4333-A99D-3458BF963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7ACAC-9E34-480B-94D1-FBD1BBD869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43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5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57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76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94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02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5BEE5-50B3-491E-8050-80C300F59E6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48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50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2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81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99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6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207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F43E8-C491-4C35-8175-FC77FEF0ABA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cbc.ca/gfx/images/news/photos/2008/05/19/obama-cp-4876151.jpg&amp;imgrefurl=http://www.cbc.ca/canada/story/2008/05/19/democratic-primaries.html&amp;h=349&amp;w=584&amp;sz=108&amp;hl=en&amp;start=2&amp;tbnid=Dx3gthFRiIl3YM:&amp;tbnh=81&amp;tbnw=135&amp;prev=/images%3Fq%3D%2BObama%26gbv%3D2%26hl%3Den%26safe%3Dactive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BarackObama-Basketball.JPE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1692360" y="765000"/>
            <a:ext cx="381636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763640" y="2276640"/>
            <a:ext cx="42483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0" y="1620720"/>
            <a:ext cx="9144000" cy="523728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1403280" y="333360"/>
            <a:ext cx="6048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996633"/>
                </a:solidFill>
                <a:latin typeface="Showcard Gothic"/>
              </a:rPr>
              <a:t>O  B  A  M  A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324000" y="189000"/>
            <a:ext cx="37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33"/>
                </a:solidFill>
                <a:latin typeface="Showcard Gothic"/>
              </a:rPr>
              <a:t>OBAMA ’S LIF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95280" y="1844640"/>
            <a:ext cx="8137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24000" y="1773360"/>
            <a:ext cx="784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0" y="1125360"/>
            <a:ext cx="8820000" cy="63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omic Sans MS"/>
              </a:rPr>
              <a:t>Barack Hussein Obama  was born  on 4  August in 196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omic Sans MS"/>
              </a:rPr>
              <a:t>Born to a Kenyan father and a white American m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omic Sans MS"/>
              </a:rPr>
              <a:t>He spent most of his childhood and teenage years in Honolulu, Hawai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omic Sans MS"/>
              </a:rPr>
              <a:t>He got married to Michelle Obama in 199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omic Sans MS"/>
              </a:rPr>
              <a:t>The first daughter, Malia Ann was born in 1998, and the second daughter, Natasha(“Sasha”) in 200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4381560" y="0"/>
            <a:ext cx="476244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ORE OF HIS LIF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There politicla party are the democrati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His residence( Kenwood), Chicago,Illinoi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His profession: attorne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His religion is Christian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He is a junior senat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" dur="10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" dur="1000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" dur="1000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" dur="1000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" dur="1000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0" y="1628640"/>
            <a:ext cx="9144000" cy="523728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 txBox="1"/>
          <p:nvPr/>
        </p:nvSpPr>
        <p:spPr>
          <a:xfrm>
            <a:off x="324000" y="189000"/>
            <a:ext cx="8496000" cy="1224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OBAMA'S FAMILY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Obama before a crow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42920" y="2205000"/>
            <a:ext cx="7344000" cy="44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OBAMA WITH HILLAR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28036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VOTE FOR OBAM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0" y="1424160"/>
            <a:ext cx="8820000" cy="54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OBAMA PLAYING BASKETBALL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73" name="" descr="Obama playing basketball with U.S. military in Djibouti in 200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00360" y="1341360"/>
            <a:ext cx="368460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he en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Asunción Garcí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2700360" y="2349360"/>
            <a:ext cx="3454200" cy="42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08:03:34Z</dcterms:created>
  <dc:creator>Los Tilos</dc:creator>
  <dc:description/>
  <dc:language>en-US</dc:language>
  <cp:lastModifiedBy>Los Tilos</cp:lastModifiedBy>
  <dcterms:modified xsi:type="dcterms:W3CDTF">2008-06-09T08:09:46Z</dcterms:modified>
  <cp:revision>4</cp:revision>
  <dc:subject/>
  <dc:title>Diapositiva 1</dc:title>
</cp:coreProperties>
</file>